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18A5-9258-44C2-B863-DAA294209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3983-C378-4B8C-A37D-EBCCC96B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2B4985-E21E-4F3E-927C-15D2F7F2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F889C-C5BF-416E-967A-8CD34B96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1D38C4-71D5-4210-A418-93A66EF1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091360-C17B-493C-9E00-3D09EEF6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5130D5-925D-44DE-A584-7E6885CE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E1CDE-2F0A-4E4E-A68C-3607950D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3B099-1638-46F5-B7A8-C03D2218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FDFD03-28DA-4024-A08C-2756EC30A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3D038F-5E5C-4C80-A31A-2C67B4BCE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201F23-4352-427A-8B08-E2C37E40A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4229-AE20-4534-ADE6-ED2A795C6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15806-3B26-4BDC-B063-3D7406DD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9B967A-3DA2-4620-B0F3-302B51C4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844226-5CF8-4C94-9195-4C212E81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503F8B-6A29-473E-B1A1-1CA3ED84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47765C-BEE1-4975-B3F8-566F7E91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91D8CA-E7AA-4D81-8C24-85A0980B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46D11B-4B13-4095-8356-51C1DBBA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4FD592-81E3-4398-9B3A-24F68C12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A8F092-D4CD-420A-841D-5D6899B5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2593BE-5D17-45B4-AAE6-3836B29FE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DAE5-A9D2-41EC-841B-CF3D7A2A5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B38115-B1D4-4D6F-9340-871BBDE7B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7B1F0-246B-4403-892A-5A8633E5F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3C8FD8-D522-4F45-897C-8B0B533E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E5583-03C4-40D1-8EBF-BA3DC082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92B3C-1BBE-4DE0-9B07-80FB2B6A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FAE06-893E-461A-98EB-7897EEC3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CB398-3DB9-49A0-9CEF-34099EB8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638AC-1D39-4D25-A439-7460CB5F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36923-80CC-42C0-92F0-2FD25B01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E8B90C-7A81-4786-B7C2-96CAB22C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9153-FD04-408F-B1BF-48C17161D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E7772-3394-4F8E-A6AD-FD108A13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BD0F69-5A13-40DD-A2E4-F4B68E4D4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9D52B-00C1-458B-B292-8ECBB5306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4AC4E5-DD45-45B1-806C-8CB9A0911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C818DC-A236-4F94-9AE0-0E112E27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D1C11A-4BEC-4C31-9B1A-B72A5EC1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31F0E8-E401-4DBC-879E-FE623AA8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BC6289-3ECA-4962-A497-F31B53C2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CD49C3-3DFB-4EDC-A8AA-3EE8092A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FBAF1-1538-4F9E-A1EF-7B8A3912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D374-FE41-40DC-A47A-83CA449C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020CA0-2746-407A-BC03-A963990D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4B4F6F-E28E-4EAC-9DFF-1610BEB0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56C570-0618-4B9A-9350-D02A3BFD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2E1EB2-1682-4843-9DCC-8ED6A36BC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3F962B-56C6-41DB-A1D2-F4D79CE66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03CA5A-D875-411A-877D-6A20D5131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DFA01D-43BF-4078-B11C-503F0F95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A1FD6D-738F-4BF9-80F9-13282918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03CFA9-D7B1-4E5E-918D-AF6838C1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319026-3578-4E9D-8AA9-3094B99C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306E-C01B-4BC8-BF12-0A45BBB7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7586CD-8315-4922-85DE-68ACD855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B977C5-095F-4A55-9826-2CBE0973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2D5297-9DD8-4A67-A077-F268E915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E430D4-B9C9-4F60-8BC2-393C7404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365DD4-327F-4B71-88F7-AAE46913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4637F9-490E-4C85-893B-C88901737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046B43-3AFA-4A0D-B154-7BF4B36B9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F4BC33-0C55-417D-9F96-6B03B5961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6ECFFD-212A-40C4-9275-39EDB624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DD915F-48AB-4D97-8CC6-AFAB753A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BF2E-79B5-4CEB-94D6-D66CAED5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E0E67B-799E-4434-9BC3-C14351A1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E388E5-4243-496B-BDF1-09541BE8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CD791D-D831-488B-AF96-BF093BB9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318D15-52B8-452E-BE53-2004807D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24E8FC-6386-4F92-AA2D-E0B0C478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74C0B4-6673-4379-9849-BC21049B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81626B-E481-45D0-98A4-D438C229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9167AC-2EFA-40DE-B8A3-EE06FCF79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4945D2-E4DA-4A1F-8460-A11DAC165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2948A0-F9A9-4991-8264-56D7FBC2A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18CA-BA40-40E1-B813-9E5CC3DD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20EAAB-9DE4-460F-87CB-FD0E755E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4E8C82-4157-4257-9C31-24064EE6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B75DDF-CA68-4886-B3C6-72EBC117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AEF51A-81C6-4A55-B59D-D4648E00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57E6A8-A081-4638-87AA-D5A93AA8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4A1A0D-7DF4-4A2C-985F-3F07F8A2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0614A0-3ADF-4721-A6B4-62E14F1D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6436DE-0BC7-4F3F-94FC-93368BAA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9600F0-0BF1-4108-915D-6C182224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574C22-6FA3-43BE-A109-E760C5B78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EF1C-506B-40AD-A178-4655980E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EBD502-1A2E-4C64-AAE0-5FA217B84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D1AD44-E451-4201-A33B-F569BDD9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D4CA8D-08D1-4514-9272-6A55C2E8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F6CC29-BB18-48B2-A930-AB07CA8A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F65017-E7EE-471F-82D1-154E19B2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40B2B9-0C00-48B9-8CC0-BCE643CF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34A874-96F9-4C6C-B5DD-2679D2F7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454322-A4A8-4A42-919E-ECD93859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6CC560-5D54-429A-A03A-790A40E9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3C1CE1-F1F0-45B0-9BA8-A14B1BEE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A884-8D76-4E2D-96AD-A478B2E7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9D5D0C-5A31-4E1D-B8A7-087FFA4C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DB533F-0B0A-4415-8AFD-1B4568361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87724D-88A1-4C6F-85BF-E937EEE63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47F411-3750-4C7C-AD20-21F5217FC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A49606-200C-46F5-9BD1-956D91D4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FE92CB-E03A-4E83-8915-C094A1D9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14D2BF-4E99-4937-ADA2-6A53EE0D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000BB7-99EC-43CF-B31E-35823018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215855-687F-4C6E-8C9E-30C9E0F4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C36544-5860-44A6-A26F-214C1071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99A6-5D36-40CF-B27A-1203BFDC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64FF-68A6-4AB5-AD00-B0F732D1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D91927-57BB-4B44-959D-064A5002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B21720-9EC0-4B93-8DE5-9D475C58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239256-F802-4CCC-9F18-5F3AFB09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874DDE-97A9-42EB-91C8-72D74BDAF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76478D-6173-4355-B303-631B69D45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03A541-AF4B-48B6-AEEE-27345436C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688636-6EF0-4A5C-AD51-159E8D22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59E216-1B64-4DA4-8B3B-AE72DAC7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41A3C6-00BA-4DF2-AC20-A76DAD2C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2102F4-570F-4A0F-AD45-A4D3AB47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349D-CBCC-40F0-9457-3A0960C6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40173A-BA13-49EA-9310-39E2E8F9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38B914-C07B-4443-8AFE-02C287D7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5B120A-63A3-42CB-BFF4-1BD57087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857A9F-646C-467C-AA6C-A46172D9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342B5C-2653-444E-82EA-9EE50C20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D926C8-C67B-468E-963C-8FAD369B3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9E000C-1AC7-4208-A96D-3FA906754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6D3CC5-68E8-4788-864B-0383C760D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4CC6FA-E6B4-4CCB-80A3-E47D06D9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4C295C-C566-4149-AE51-3C2302BB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168C-FF34-4835-920D-6E219644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FEF728-CE7F-4C0F-B778-D0823B7F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D72C1F-63A4-4981-8961-5D890351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EEACE9-31C5-47D1-8DBC-36306970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387035-7689-4CA6-A257-FDCF3C2A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3707AF-AD58-4DE4-8196-5BEF9400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7F63DB-09EA-4BEB-81BF-4433A0B7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E13ECA-6660-4E32-AB93-B65AF28C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047AA7-DCA0-48BF-9F31-8658ADF1A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567140-69A9-4C54-A369-3011F7754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A861F5-8235-4148-B222-2A38B9E30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A0BB-A7A8-45A9-A1A3-A9D6E044C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63215C-8BAD-4632-975A-D510A052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5B74C3-BE0A-48D2-9B5C-E1CD57CE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C53603-E051-4904-B5EE-83E1DAB4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4E9475-9565-4942-9CD1-B6CF539E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8F470F-57ED-4525-A7A4-94FB9041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0C00F5-271E-4E4F-881E-9B466173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B71F97-0D95-42A2-A585-C41B80FB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290674-F4C1-42C3-8B4E-302945DB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5F8E3C-7572-4B49-B457-B5933826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AEDFC1-7435-42EB-B6BD-A232AD971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8B97-49F4-4D9A-A56A-A1B196360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EC7D79-92F7-45C4-9A3F-A9FE3F8A4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C95611-9E72-450C-9BBD-16D2DC555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484340-163D-465E-8512-72E79774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ED4088-C184-40CB-880D-7DE636A6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C3EF31-6B08-4662-A3F0-84C30289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18FEDA-876B-40FA-B6E2-448D3F92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49ACC1-16B8-45E3-A126-D81ACE0D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BBF834-E107-4DC6-94A9-763967C8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D88521-F04F-4089-B86E-A605BEAB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8BD7B1-57C9-445C-A52F-60C9FDF2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9C533-7176-4FBE-8E86-58BAE2232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648900-DB59-483D-AD56-D3D07A00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C872FC-D25B-465A-8663-7447CB760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42ADD2-F9E2-4D24-BA2B-5E3D1BF0E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12D6FC-D4B4-4C79-9151-717CAD54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4C7FED-B415-4908-86BD-11FC6735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000DEE-1D35-4952-9B2F-94CD6B1C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71BB3E-0B46-4BA2-BF66-78C3BB17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5E868C-A637-4767-9837-3E4CF051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12A46F-2918-4A44-A029-45F3313C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906F37-E011-4CC7-87D0-E89ACB58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D3B28-B823-4C3D-93C2-2C0ACD80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76B4A2-6B94-4613-9BA2-A7093186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C191AC-60D1-4B74-ACA3-0FA1F7AA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E22C19-4BC3-4C11-9956-73126268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B689B7-58C5-4391-B33D-A3E7BFC9F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ED9F43-C7BF-4CD3-918D-0651A5CE2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24044F-AA19-49CC-89EB-298D9D762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29A8C0-1BEA-4D9A-8690-52C8E7B2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2FB042-9FFB-47F0-80E0-D52079F5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467119-E845-4F8F-8CFC-DD1C8F4A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13397C-8D50-410F-8E2D-CD02AAFA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8ECEB-CBA6-4536-A4DF-A782C48F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9934DF-01D0-479E-81B2-CD8D010C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6A8710-61C0-413D-9482-94FF7364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3CC072-65F2-42D1-B948-31050C54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97A48C-0B62-41E5-9135-F0B249FB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B01D4D-F903-4F40-84A9-35D112F6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92B920-9D13-416A-A51F-89936B998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A9D260-2886-4895-B94B-DC855DEA9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A5F1E-A995-4DC8-846F-2249D855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AFF83-7BF3-4C1D-81AC-28E58CC8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22AD-21D7-4020-A4E8-F07E8278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8EA03-FA4C-410A-99B0-F3A541B6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3FC6C-008D-4DCA-8C32-BB9A19DF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B77E1-34F5-488A-9107-76BC3935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7E5E2-AE68-48AF-A7A8-735BE81C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3F4A2-F28B-4A8B-A90B-FF0EE55E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E8C01-6646-46AB-ADDD-B886446AB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92EEC-C013-4431-B6DE-FDEC5CA99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0EAA1-9B2A-44EF-A3F2-9D27A6521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CCE73-51C5-417A-A02D-3F042F6C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643A2-3963-4FC4-93DC-B1ED30DF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BCFB-8275-4F8A-B2E2-FCABA493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1133B-8A70-4D3C-9EE6-C9455AF8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B8987-1E3E-4E58-9233-1F4FB4C8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0BEC4-0E5D-48D5-AA7B-E6066013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49EAA-CA77-43B7-B17B-5C0292FE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7A06D-CA4A-4E9A-A59E-6262CD56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A40AE-4635-470E-9A31-CEB8D821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A6B99-49F5-4CAB-AC20-4E98917F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F0683-5983-4FDF-B62A-5F953992C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CDDEA-DCD4-4C08-96D8-7EC4CD15E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48EB3-A462-43E0-AB45-B598FF53E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FDC5-7FEF-4530-B29C-3B1649BD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0DAE3-0F74-4723-B85B-122E3690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C86FB-59D2-4ADA-94E8-E1E461DF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30B15-D6FC-4C5C-9ED3-B31B63C6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97668-5136-49F6-8C2A-E4142DD8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80299-A287-4F9B-B8C7-19069CD5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3C0A2-D5E6-4FEE-AE44-769D21E0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E55AE-6F2F-454D-8A75-F557790A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14FB0-D204-47AA-8DE5-C56E2658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E2F4C-5248-430F-A05A-10240166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F5463-A546-496C-AA9F-4B5AC5731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15A6-8251-4AF6-8C70-2EC4EEFF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3A3C7-FF05-467E-9523-05CF14D13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69C50-3638-4723-8620-6E3DC384E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50C9F-6D98-4B4B-A047-EED9722A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BD27A-151F-45B4-A695-36032D84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BAB2D-B1A0-4732-9299-676DC874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A217D-967E-4434-A355-1D6668C8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FBEA6-53BD-4951-8771-14F77BFA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DFDD1-4602-4447-AA4C-1CBCDF55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206A2-BABA-4FF9-A504-FFA56EEB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3885F-88A1-4AD5-8E80-564B5E08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A104-A522-4AD8-A404-F4E5A17F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FDA59-7842-4DF7-BFBE-03736733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292BE-7FBA-422C-B30B-8EE435C83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8E0F9-5EF9-4F65-9AC1-969E304E7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0A304-47CA-4B0C-A9E5-92B4BC807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D607A-661F-44C7-9706-C745EB3F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D28B6-47AB-4D5D-864C-E6AC7ACD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1CEAF-279C-4B6A-A1A5-29B0E719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E0BB8-8BDC-4BD5-B7D9-F8BA16A6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63624-2768-4E7A-A3C4-88AF8F8D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9B216-FAA1-4285-BF83-13172D0A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AB79-9C14-4B6C-A487-C299E9FF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EE67B-7D93-493B-80A0-81EBF55B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39DDB-0592-4832-90C3-08D66886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E4F21-AA20-40C8-9A53-8723FF85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84CAA-B766-4D83-9AEB-D72218104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EEBD6-03F8-40EB-9174-D5E7C70A6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1B557-A1BE-48AD-9AA8-3F6EFA2A2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798FB-800A-4181-8C31-2D32CC24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DD1B0-FDB1-4F05-83CE-AB9F4045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07467-170C-40A1-B6F9-3C7CDF36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762D7-9917-4C0F-887C-7CAD0AC6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A036-1DB7-4300-8BE2-65A7712D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F0F2C-EE90-4A22-9A4F-0E4F016A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DACC4-9722-4787-823F-F763E810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C0F59-0FC0-4544-BC38-F63E62E7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9F0CB-607B-4C11-B0C9-E89096D4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9EB42-8D5C-48FA-A490-86CE711B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B2B18-8A75-48C2-9FD7-E0028AEC8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9BCDC-F924-4091-A374-2E58F53FF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9B52ED-8B4F-403A-A329-FBB5DA890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577FF-2BBF-4C5C-96DE-8B097586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32E5FA-53C0-4F3C-9D85-069E30B5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6018-8CD3-4E26-87CF-93A0587367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38C4-A7B1-4269-8045-D3313E1D71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1334-4C16-478F-9012-62AC2F04E5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50F1-52A8-4A8D-A7DA-3EAC87468F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4E94-D324-48F2-A1C7-CF3EEB0C37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FD88-B49D-44EC-8BB7-9A4E0556B7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8FE2-6F2D-4437-A18E-ABF6D4C30E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13A1-9F4D-4205-93AD-12A61D1C9B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E272-05D5-4941-84BE-7A75C2E68F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EC35-B9E9-4CD7-819C-E18992CCD5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7F7C-DB32-4AE8-98E8-4A3458F0E3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61AA-D4DC-430E-9345-6F03CF3E84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5C8C-D26F-4498-86E3-658D7DCE36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0777-59D4-405E-8564-232F45D40C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255E-8665-468B-B713-A253602DCD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0265-93B0-4987-9653-E7E1EDCCB2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AEB8-C8BC-472F-A7A0-A045F6C5AD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F643-8E1B-4FA5-BDAD-A3D54D2A1E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2654-C3E3-496A-A9EE-791E540015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2857-97AB-4C77-84AA-2416804321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C566-7C77-4C8F-8B53-8898BB7221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B6E5-11B2-4A08-9107-7EA7D552847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2A01-DF41-4684-A000-631A2BCE3C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6695-2A6A-41C4-811C-CC51939012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9D69-BEFD-4007-9911-A2E13F3927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EAD9-5D31-4D75-B715-162E676B04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F60F-7A8A-4A09-88F9-2F98E1319B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B44A-1DAA-43DB-AF1E-EAE7C08B87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4147-2B90-4741-BEDF-903D2B122F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397F-5D69-4E1D-949D-4D56F3F1FD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ED7F-E483-4576-9344-61C76E3E8A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D5C3-5758-4C18-8C93-D792727590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B90B-EB3D-48DA-9C22-A2D44FB233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FDDF-2A49-466A-B983-2FEB45A399E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443E-C29F-4EF2-95E6-FC2DAFD33B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DDFD-F809-491F-A20E-5675BDCC05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CC92-9356-40CF-A559-38B293C9F8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9DEC-75B3-4E8D-83AB-C5BB1F5485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3327-6180-45E9-BDC9-FDAC75A975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0882-74DE-4153-9F85-D74FE8205D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DB4A-2A62-4B7D-AB92-121DD85F5F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1775-5F6D-4FBD-8A13-61043E1AFE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384120" y="3073320"/>
            <a:ext cx="863604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图片 1" descr=""/>
          <p:cNvPicPr/>
          <p:nvPr/>
        </p:nvPicPr>
        <p:blipFill>
          <a:blip r:embed="rId1"/>
          <a:stretch/>
        </p:blipFill>
        <p:spPr>
          <a:xfrm>
            <a:off x="158760" y="1639800"/>
            <a:ext cx="8825040" cy="1725840"/>
          </a:xfrm>
          <a:prstGeom prst="rect">
            <a:avLst/>
          </a:prstGeom>
          <a:ln w="0">
            <a:noFill/>
          </a:ln>
        </p:spPr>
      </p:pic>
      <p:pic>
        <p:nvPicPr>
          <p:cNvPr id="1059" name="图片 2" descr=""/>
          <p:cNvPicPr/>
          <p:nvPr/>
        </p:nvPicPr>
        <p:blipFill>
          <a:blip r:embed="rId2"/>
          <a:stretch/>
        </p:blipFill>
        <p:spPr>
          <a:xfrm>
            <a:off x="1706400" y="3832200"/>
            <a:ext cx="6258240" cy="231444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3"/>
          <a:stretch/>
        </p:blipFill>
        <p:spPr>
          <a:xfrm>
            <a:off x="2916360" y="203184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4"/>
          <a:stretch/>
        </p:blipFill>
        <p:spPr>
          <a:xfrm>
            <a:off x="3132000" y="2565360"/>
            <a:ext cx="792360" cy="44784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5"/>
          <a:stretch/>
        </p:blipFill>
        <p:spPr>
          <a:xfrm>
            <a:off x="5508720" y="206064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6"/>
          <a:stretch/>
        </p:blipFill>
        <p:spPr>
          <a:xfrm>
            <a:off x="5508720" y="256536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7"/>
          <a:stretch/>
        </p:blipFill>
        <p:spPr>
          <a:xfrm>
            <a:off x="8028000" y="210492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8"/>
          <a:stretch/>
        </p:blipFill>
        <p:spPr>
          <a:xfrm>
            <a:off x="8244000" y="2565360"/>
            <a:ext cx="677880" cy="44784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9"/>
          <a:stretch/>
        </p:blipFill>
        <p:spPr>
          <a:xfrm>
            <a:off x="3492360" y="4365720"/>
            <a:ext cx="677880" cy="44748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10"/>
          <a:stretch/>
        </p:blipFill>
        <p:spPr>
          <a:xfrm>
            <a:off x="3305160" y="5084640"/>
            <a:ext cx="677880" cy="44784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11"/>
          <a:stretch/>
        </p:blipFill>
        <p:spPr>
          <a:xfrm>
            <a:off x="5940360" y="4437000"/>
            <a:ext cx="677880" cy="44784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12"/>
          <a:stretch/>
        </p:blipFill>
        <p:spPr>
          <a:xfrm>
            <a:off x="6199200" y="5084640"/>
            <a:ext cx="6778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2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00160" y="596880"/>
            <a:ext cx="8743680" cy="619128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1042920" y="3357720"/>
            <a:ext cx="3384720" cy="4474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1116000" y="3933720"/>
            <a:ext cx="3384720" cy="447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5291280" y="3298680"/>
            <a:ext cx="3384360" cy="44784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5364000" y="3875040"/>
            <a:ext cx="3384720" cy="447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826920" y="5618160"/>
            <a:ext cx="3384720" cy="44784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7"/>
          <a:stretch/>
        </p:blipFill>
        <p:spPr>
          <a:xfrm>
            <a:off x="900000" y="6194520"/>
            <a:ext cx="3384720" cy="4474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8"/>
          <a:stretch/>
        </p:blipFill>
        <p:spPr>
          <a:xfrm>
            <a:off x="5075280" y="5618160"/>
            <a:ext cx="338436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9"/>
          <a:stretch/>
        </p:blipFill>
        <p:spPr>
          <a:xfrm>
            <a:off x="5148360" y="6194520"/>
            <a:ext cx="3384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图片 1" descr=""/>
          <p:cNvPicPr/>
          <p:nvPr/>
        </p:nvPicPr>
        <p:blipFill>
          <a:blip r:embed="rId1"/>
          <a:stretch/>
        </p:blipFill>
        <p:spPr>
          <a:xfrm>
            <a:off x="214200" y="679320"/>
            <a:ext cx="8715600" cy="611532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2"/>
          <a:stretch/>
        </p:blipFill>
        <p:spPr>
          <a:xfrm>
            <a:off x="1476360" y="3386160"/>
            <a:ext cx="6840720" cy="4474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3"/>
          <a:stretch/>
        </p:blipFill>
        <p:spPr>
          <a:xfrm>
            <a:off x="1403280" y="3933720"/>
            <a:ext cx="6840720" cy="4478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4"/>
          <a:stretch/>
        </p:blipFill>
        <p:spPr>
          <a:xfrm>
            <a:off x="1332000" y="4508640"/>
            <a:ext cx="6840360" cy="44748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5"/>
          <a:stretch/>
        </p:blipFill>
        <p:spPr>
          <a:xfrm>
            <a:off x="1332000" y="5084640"/>
            <a:ext cx="6840360" cy="4478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6"/>
          <a:stretch/>
        </p:blipFill>
        <p:spPr>
          <a:xfrm>
            <a:off x="1332000" y="5661000"/>
            <a:ext cx="6840360" cy="4478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7"/>
          <a:stretch/>
        </p:blipFill>
        <p:spPr>
          <a:xfrm>
            <a:off x="1332000" y="6237360"/>
            <a:ext cx="6840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1" descr=""/>
          <p:cNvPicPr/>
          <p:nvPr/>
        </p:nvPicPr>
        <p:blipFill>
          <a:blip r:embed="rId1"/>
          <a:stretch/>
        </p:blipFill>
        <p:spPr>
          <a:xfrm>
            <a:off x="576360" y="1238400"/>
            <a:ext cx="7991280" cy="43812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2"/>
          <a:stretch/>
        </p:blipFill>
        <p:spPr>
          <a:xfrm>
            <a:off x="1042920" y="2017800"/>
            <a:ext cx="7058160" cy="4474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3"/>
          <a:stretch/>
        </p:blipFill>
        <p:spPr>
          <a:xfrm>
            <a:off x="1042920" y="2637000"/>
            <a:ext cx="7058160" cy="4474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4"/>
          <a:stretch/>
        </p:blipFill>
        <p:spPr>
          <a:xfrm>
            <a:off x="1042920" y="3213000"/>
            <a:ext cx="7058160" cy="4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5"/>
          <a:stretch/>
        </p:blipFill>
        <p:spPr>
          <a:xfrm>
            <a:off x="971640" y="3716280"/>
            <a:ext cx="7057800" cy="447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6"/>
          <a:stretch/>
        </p:blipFill>
        <p:spPr>
          <a:xfrm>
            <a:off x="755640" y="4307040"/>
            <a:ext cx="7058160" cy="4474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7"/>
          <a:stretch/>
        </p:blipFill>
        <p:spPr>
          <a:xfrm>
            <a:off x="755640" y="4927680"/>
            <a:ext cx="70581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181080" y="1476360"/>
            <a:ext cx="8781840" cy="39052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2"/>
          <a:stretch/>
        </p:blipFill>
        <p:spPr>
          <a:xfrm>
            <a:off x="900000" y="2305080"/>
            <a:ext cx="4248360" cy="4474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900000" y="2881440"/>
            <a:ext cx="424836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4"/>
          <a:stretch/>
        </p:blipFill>
        <p:spPr>
          <a:xfrm>
            <a:off x="971640" y="3500280"/>
            <a:ext cx="424800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5"/>
          <a:stretch/>
        </p:blipFill>
        <p:spPr>
          <a:xfrm>
            <a:off x="826920" y="4076640"/>
            <a:ext cx="4248360" cy="4478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6"/>
          <a:stretch/>
        </p:blipFill>
        <p:spPr>
          <a:xfrm>
            <a:off x="684360" y="4638600"/>
            <a:ext cx="6408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200160" y="1123920"/>
            <a:ext cx="8743680" cy="46101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971640" y="2622600"/>
            <a:ext cx="6769080" cy="4474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900000" y="3213000"/>
            <a:ext cx="676908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971640" y="3789360"/>
            <a:ext cx="6769080" cy="447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5"/>
          <a:stretch/>
        </p:blipFill>
        <p:spPr>
          <a:xfrm>
            <a:off x="971640" y="4365720"/>
            <a:ext cx="6769080" cy="4474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6"/>
          <a:stretch/>
        </p:blipFill>
        <p:spPr>
          <a:xfrm>
            <a:off x="755640" y="4941720"/>
            <a:ext cx="6769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200160" y="860400"/>
            <a:ext cx="8743680" cy="564840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684360" y="2421000"/>
            <a:ext cx="8064360" cy="10792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3"/>
          <a:stretch/>
        </p:blipFill>
        <p:spPr>
          <a:xfrm>
            <a:off x="1619280" y="3630600"/>
            <a:ext cx="3384360" cy="4478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4"/>
          <a:stretch/>
        </p:blipFill>
        <p:spPr>
          <a:xfrm>
            <a:off x="1619280" y="4149720"/>
            <a:ext cx="3384360" cy="4478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5"/>
          <a:stretch/>
        </p:blipFill>
        <p:spPr>
          <a:xfrm>
            <a:off x="1619280" y="4724280"/>
            <a:ext cx="3384360" cy="4478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6"/>
          <a:stretch/>
        </p:blipFill>
        <p:spPr>
          <a:xfrm>
            <a:off x="1547640" y="5373720"/>
            <a:ext cx="3961080" cy="4474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7"/>
          <a:stretch/>
        </p:blipFill>
        <p:spPr>
          <a:xfrm>
            <a:off x="826920" y="5950080"/>
            <a:ext cx="80661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图片 1" descr=""/>
          <p:cNvPicPr/>
          <p:nvPr/>
        </p:nvPicPr>
        <p:blipFill>
          <a:blip r:embed="rId1"/>
          <a:stretch/>
        </p:blipFill>
        <p:spPr>
          <a:xfrm>
            <a:off x="52560" y="765000"/>
            <a:ext cx="9038880" cy="59817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2"/>
          <a:stretch/>
        </p:blipFill>
        <p:spPr>
          <a:xfrm>
            <a:off x="755640" y="2765520"/>
            <a:ext cx="5184720" cy="4474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3"/>
          <a:stretch/>
        </p:blipFill>
        <p:spPr>
          <a:xfrm>
            <a:off x="826920" y="3357720"/>
            <a:ext cx="5185080" cy="4474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4"/>
          <a:stretch/>
        </p:blipFill>
        <p:spPr>
          <a:xfrm>
            <a:off x="900000" y="3933720"/>
            <a:ext cx="5184720" cy="4478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5"/>
          <a:stretch/>
        </p:blipFill>
        <p:spPr>
          <a:xfrm>
            <a:off x="971640" y="4581360"/>
            <a:ext cx="5184720" cy="4478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6"/>
          <a:stretch/>
        </p:blipFill>
        <p:spPr>
          <a:xfrm>
            <a:off x="1476360" y="5099040"/>
            <a:ext cx="5184720" cy="4478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7"/>
          <a:stretch/>
        </p:blipFill>
        <p:spPr>
          <a:xfrm>
            <a:off x="611280" y="5691240"/>
            <a:ext cx="8136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图片 1" descr=""/>
          <p:cNvPicPr/>
          <p:nvPr/>
        </p:nvPicPr>
        <p:blipFill>
          <a:blip r:embed="rId1"/>
          <a:stretch/>
        </p:blipFill>
        <p:spPr>
          <a:xfrm>
            <a:off x="190440" y="1314360"/>
            <a:ext cx="8763120" cy="42292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2"/>
          <a:stretch/>
        </p:blipFill>
        <p:spPr>
          <a:xfrm>
            <a:off x="2340000" y="424980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3"/>
          <a:stretch/>
        </p:blipFill>
        <p:spPr>
          <a:xfrm>
            <a:off x="5003640" y="4249800"/>
            <a:ext cx="792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16:41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